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3034-C254-4D38-B4B7-88EE646D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C07-548A-4519-83DB-EB4D9C03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B96-4F0E-449C-9C93-E43E3FD5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A9BD-844E-4DF4-B142-173DEC2D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AEA8-0674-4773-AE9E-896015BE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5FB7-8256-4626-BFB2-B89374B7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3155-ADFE-4CFA-BD20-3D2FAE37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99B4-43D4-41FB-9519-FD414313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8371-BAF5-4B66-94B9-ADD4BB2A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3359-3254-4AC8-8B5C-09515D21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85F5-FB87-4561-8245-C038CF05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B6BF-B300-45E8-ABE7-3FA9277C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3E3B-C911-41B1-86EF-E1BE2758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ECE0-B265-4C4A-AA61-945308CB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E5C0-0E84-44DD-8ABD-3B97FCD6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95C1-E069-4C8A-9A2D-7F82B828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F027-3293-4D0B-BC4D-F8071869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4518-EB24-4574-9C2A-000DCEF2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4A8-C7FC-4C63-9122-9F4105C9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22A6-4883-42FE-BF9D-C2BCF7C6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7414-2EE3-4FC4-B506-198173E6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8E1-BC0B-4537-8709-57266C59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47DE-71FC-4F0C-BB9B-6837E1FE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08F-7139-4114-9E3F-B50CB535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C606-D0F4-432C-BE59-72CD8376F5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81C4-E5B8-4EA2-893B-6888072D0D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38224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УНАПРЕЂЕЊЕ ОРГАНИЗАЦИОНИХ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ОЦЕС</a:t>
            </a: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2. Планирање процеса СБЗ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реирање крос-функционалних тим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дентификовање свих конституената (интересних груп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нгажовање експе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Тренинг менаџ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езбеђивање података о текућем стању посл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3. Објављивањ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ву фазу чине следеће актив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јашњавање пословне ствар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јављивање одлу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дређивање тајми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4. Имплемент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ву фазу чине следећи елемен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аопштавање ист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моћ радницима који остају без по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лога прав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бровољни одлас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кључивање запослених у имплемент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ука за </a:t>
            </a:r>
            <a:r>
              <a:rPr b="1" lang="sr-Latn-R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еживеле</a:t>
            </a:r>
            <a:r>
              <a:rPr b="1" lang="sr-Latn-RS" sz="32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БЗ стратегиј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23760" y="1752480"/>
            <a:ext cx="912024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БЗ стратегиј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9080" y="1852560"/>
            <a:ext cx="90615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БЗ тактик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времено пензионис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мештање (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utplac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знури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тпушт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обровољни одлас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рекид нових запошља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utsourcing и укидање фун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мањивање организационих ниво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ајање једи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едизајн по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тицај на запослен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 груп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х који су под утицајем стратегије СБЗ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послени који напуштају организ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Преживели</a:t>
            </a:r>
            <a:r>
              <a:rPr b="1" lang="sr-Latn-RS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– запослени који остају у организацији након реорганиз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Терминатори</a:t>
            </a:r>
            <a:r>
              <a:rPr b="1" lang="sr-Latn-RS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еживели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ји спроводе план СБ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атегорије ″Преживелих″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″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еживели″ који обавезују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лојални, хладнокрвни и следе инструкци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еживели″ који се надај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прихватају иницијативу и укључују се у решавање пробл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еживели″ који страхуј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уплашени и пасив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еживели″ који су циничн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отворено противљење целом проц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знањем током СБЗ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37098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иступ СБЗ заснован на знањ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гући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блем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нтификовање суштинске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 мапирати знањ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 спречити одлазак лидера знања из организациј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 обезбедити кодификација и персонализациј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еинжењеринг пословних проце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Деф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инжењеринг пословног процеса представљ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огр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дикалних организационих проме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ји у првом плану има процес послов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и смерниц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еинжењеринга с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рирода промена коју изази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ерспектива организациј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битна улога информационе технологиј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еинжењеринг пословних проце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 процеса у којима се ради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еинжењерин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јчешћ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ухва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ознавање проце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варање мапе процес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бор проце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умевање проце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ефиницију проце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изајн процеса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титуционализацију,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финисање пробл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еинжењеринг пословних проце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инжењеринг се често повезује са процесом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енчмаркинг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оређење са најбољима) и постоје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етири типа тог проце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интер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конкурент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функционал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генери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БЗ стратег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БЗ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је планирана елиминација великог броја запослених спроведена у сврху побољшања организационе конкурен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БЗ ≠ Отпуштањ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тпуштањ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е односи на тактичке акције елиминације редундантних вештина, а СБЗ је дугорочна стратегија којој отпуштање може да доприне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БЗ стратег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БЗ (смањивање броја запослених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је планирана елиминација великог броја запослених спроведена у сврху побољшања организационе конкурен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БЗ ≠ Отпуштањ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тпуштањ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е односи на тактичке акције елиминације редундантних вештина, а СБЗ је дугорочна стратегија којој отпуштање може да доприне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БЗ процес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БЗ процес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не следеће фаз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оношење одлуке о смањивању броја запосл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ланирање читавог проц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бјављи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мплементација СБЗ стратег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1. Доношење одлуке о СБЗ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е одлуке о СБЗ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ба размотр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ицај на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нкурентску пози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финисањ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руктуре рад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наге која ће подржати конкурентску пред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а постојећих и потребних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ешт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дне сна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алуација постојећ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аксе УЉ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нтификовањ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итичних тачака у УЉ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1. Доношење одлуке о СБЗ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БЗ као последњи избор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пре одлуке треба преиспитати могућности краткорочних мера: замрзавање плата, престанак запошљавање, онемогућавање прековременог рада, укидање бонуса, скраћивање радне недеље или коришћење неплаћених одм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Јачање кредибилне виз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9T07:51:37Z</dcterms:modified>
  <cp:revision>184</cp:revision>
  <dc:subject/>
  <dc:title>Soft and Hard Skills Development: A Current Situation in Serbian Companies</dc:title>
</cp:coreProperties>
</file>